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D8DF-B4E0-4967-9DAA-F4FB10F36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1143000" y="685800"/>
            <a:ext cx="4572000" cy="3429000"/>
          </a:xfrm>
          <a:prstGeom prst="rect">
            <a:avLst/>
          </a:prstGeom>
          <a:ln w="0">
            <a:noFill/>
          </a:ln>
        </p:spPr>
      </p:sp>
      <p:sp>
        <p:nvSpPr>
          <p:cNvPr id="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303D-11D1-4170-9A3B-2974AA354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6F8B-AD6E-40C2-86C2-8B3DBCAF9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30E0-B623-4A8A-81CF-8E9ACB9514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EBFE-0432-4C35-BF7A-D66A254AE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8F988-2D4F-4A6E-ACA8-CB8FA8E02C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D8CF-9004-4BD1-8D1A-C78F1D29C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C6222-8D97-4135-9953-8788E6D3FF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DA04-19BF-4980-B307-B056F86226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F250C-619D-4BA4-9B96-483976845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9FD8-A5B5-430B-A60D-A929E43B4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E1EF8-3DE4-41DA-B376-CBD74071C0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7460-317E-4A69-8ED9-FD87D8983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818D4-3A90-4364-991E-5DE567434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EBD61-D1B6-496A-9A39-643F0D3E0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587F2-A489-4E71-8E8E-86C37B5FB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101A-B1FE-4821-B3D9-54BAC58EB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90B9-C707-4AF4-BE11-EB72E34C3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BF430-0401-4E25-87FD-3624CE85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C1C10-560F-4589-89B4-B268641B4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3E751-B091-49FA-BB6F-71672302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7606A-CE00-4B34-91FF-26C7678C5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52ED2-B798-4550-8EB3-D6FFA49D1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DDEA5-6C15-44C8-9A56-B56E747456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cyclopedia.farlex.com/Presidential+Reconstruction" TargetMode="External"/><Relationship Id="rId2" Type="http://schemas.openxmlformats.org/officeDocument/2006/relationships/hyperlink" Target="http://www.digitalhistory.uh.edu/database/article_display.cfm?HHID"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 Cited (help)</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construction. Retrieved May 6, 2009, from The Free Dictionary by </a:t>
            </a:r>
            <a:r>
              <a:rPr b="0" i="1" lang="en-US" sz="2000" spc="-1" strike="noStrike">
                <a:solidFill>
                  <a:srgbClr val="000000"/>
                </a:solidFill>
                <a:latin typeface="Arial"/>
              </a:rPr>
              <a:t>	</a:t>
            </a:r>
            <a:r>
              <a:rPr b="0" i="1" lang="en-US" sz="2000" spc="-1" strike="noStrike">
                <a:solidFill>
                  <a:srgbClr val="000000"/>
                </a:solidFill>
                <a:latin typeface="Arial"/>
              </a:rPr>
              <a:t>Farlex Web site: </a:t>
            </a:r>
            <a:r>
              <a:rPr b="0" i="1" lang="en-US" sz="2000" spc="-1" strike="noStrike">
                <a:solidFill>
                  <a:srgbClr val="000000"/>
                </a:solidFill>
                <a:latin typeface="Arial"/>
              </a:rPr>
              <a:t>	</a:t>
            </a:r>
            <a:r>
              <a:rPr b="0" lang="en-US" sz="2000" spc="-1" strike="noStrike" u="sng">
                <a:solidFill>
                  <a:srgbClr val="009999"/>
                </a:solidFill>
                <a:uFillTx/>
                <a:latin typeface="Arial"/>
                <a:hlinkClick r:id="rId1"/>
              </a:rPr>
              <a:t>http://encyclopedia.farlex.com/Presidential+Reconstruction</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igitalhistory.uh.edu/database/article_display.cfm?HH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gressional Reconstruction</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ional Republicans who were appalled by the way Reconstruction was going seized control of reconstruction from President Johnson and turned the south into military zones and didn’t let the states rejoin the Union until they proved that they would follow the United States la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sidential Reconstruc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nstruction that started under President Lincoln and kept up with President Johnson, they wanted reconstruction to be over as fast as possible so they immediately started to return land and confiscated property back to the Southerners and guaruntee their admittance back into the Union provided that they swear loyalty and write a new state constit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t</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635360"/>
        </p:xfrm>
        <a:graphic>
          <a:graphicData uri="http://schemas.openxmlformats.org/drawingml/2006/table">
            <a:tbl>
              <a:tblPr/>
              <a:tblGrid>
                <a:gridCol w="4114800"/>
                <a:gridCol w="4114800"/>
              </a:tblGrid>
              <a:tr h="524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idential Reconstruc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gressional Reconstruc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admittance of south back into the Unio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dons for most Southerner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ed states to make their own state governments after abolishing slavery and pledge loyalty to Un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lit South into military distric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to be restored after adopting constitution that revolved around male voting righ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for seceded states to rejoin the Un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fy the 13</a:t>
            </a:r>
            <a:r>
              <a:rPr b="0" lang="en-US" sz="3200" spc="-1" strike="noStrike" baseline="30000">
                <a:solidFill>
                  <a:srgbClr val="000000"/>
                </a:solidFill>
                <a:latin typeface="Arial"/>
              </a:rPr>
              <a:t>th</a:t>
            </a:r>
            <a:r>
              <a:rPr b="0" lang="en-US" sz="3200" spc="-1" strike="noStrike">
                <a:solidFill>
                  <a:srgbClr val="000000"/>
                </a:solidFill>
                <a:latin typeface="Arial"/>
              </a:rPr>
              <a:t>, 14</a:t>
            </a:r>
            <a:r>
              <a:rPr b="0" lang="en-US" sz="3200" spc="-1" strike="noStrike" baseline="30000">
                <a:solidFill>
                  <a:srgbClr val="000000"/>
                </a:solidFill>
                <a:latin typeface="Arial"/>
              </a:rPr>
              <a:t>th</a:t>
            </a:r>
            <a:r>
              <a:rPr b="0" lang="en-US" sz="3200" spc="-1" strike="noStrike">
                <a:solidFill>
                  <a:srgbClr val="000000"/>
                </a:solidFill>
                <a:latin typeface="Arial"/>
              </a:rPr>
              <a:t> and 15</a:t>
            </a:r>
            <a:r>
              <a:rPr b="0" lang="en-US" sz="3200" spc="-1" strike="noStrike" baseline="30000">
                <a:solidFill>
                  <a:srgbClr val="000000"/>
                </a:solidFill>
                <a:latin typeface="Arial"/>
              </a:rPr>
              <a:t>th</a:t>
            </a:r>
            <a:r>
              <a:rPr b="0" lang="en-US" sz="3200" spc="-1" strike="noStrike">
                <a:solidFill>
                  <a:srgbClr val="000000"/>
                </a:solidFill>
                <a:latin typeface="Arial"/>
              </a:rPr>
              <a:t> amend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submit to military la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take an oath saying that they would preserve the Un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d to denounce sec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the Requirements Fair?</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requirements like having to ratify the 13</a:t>
            </a:r>
            <a:r>
              <a:rPr b="0" lang="en-US" sz="3200" spc="-1" strike="noStrike" baseline="30000">
                <a:solidFill>
                  <a:srgbClr val="000000"/>
                </a:solidFill>
                <a:latin typeface="Arial"/>
              </a:rPr>
              <a:t>th</a:t>
            </a:r>
            <a:r>
              <a:rPr b="0" lang="en-US" sz="3200" spc="-1" strike="noStrike">
                <a:solidFill>
                  <a:srgbClr val="000000"/>
                </a:solidFill>
                <a:latin typeface="Arial"/>
              </a:rPr>
              <a:t>, 14</a:t>
            </a:r>
            <a:r>
              <a:rPr b="0" lang="en-US" sz="3200" spc="-1" strike="noStrike" baseline="30000">
                <a:solidFill>
                  <a:srgbClr val="000000"/>
                </a:solidFill>
                <a:latin typeface="Arial"/>
              </a:rPr>
              <a:t>th</a:t>
            </a:r>
            <a:r>
              <a:rPr b="0" lang="en-US" sz="3200" spc="-1" strike="noStrike">
                <a:solidFill>
                  <a:srgbClr val="000000"/>
                </a:solidFill>
                <a:latin typeface="Arial"/>
              </a:rPr>
              <a:t> and 15</a:t>
            </a:r>
            <a:r>
              <a:rPr b="0" lang="en-US" sz="3200" spc="-1" strike="noStrike" baseline="30000">
                <a:solidFill>
                  <a:srgbClr val="000000"/>
                </a:solidFill>
                <a:latin typeface="Arial"/>
              </a:rPr>
              <a:t>th</a:t>
            </a:r>
            <a:r>
              <a:rPr b="0" lang="en-US" sz="3200" spc="-1" strike="noStrike">
                <a:solidFill>
                  <a:srgbClr val="000000"/>
                </a:solidFill>
                <a:latin typeface="Arial"/>
              </a:rPr>
              <a:t> amendments were fair because you couldn’t just have states that still used slavery to be admitted back into the Un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re the Requirements Fair?</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requirements were not fair like having to submit to military law because the states should still be able to govern themselves and as a state decide if the thought the new laws were fair 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Presidential Reconstruction Developed</a:t>
            </a:r>
            <a:endParaRPr b="0" lang="en-US"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coln wanted the Union to reconstruct itself and so he was letting the South of very eas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each side to forgive and forg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d not want South to hate the North because of its poor treatment of the Souther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Congressional Reconstruction Develop</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South to be severely punished for what they d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blacks to be free and have the same rights as whi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ted the entire country to be basically ruled by people who had the views of the No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8:56:55Z</dcterms:created>
  <dc:creator>cfisd</dc:creator>
  <dc:description/>
  <dc:language>en-US</dc:language>
  <cp:lastModifiedBy>Sue Silhanek</cp:lastModifiedBy>
  <dcterms:modified xsi:type="dcterms:W3CDTF">2009-05-07T02:22:34Z</dcterms:modified>
  <cp:revision>9</cp:revision>
  <dc:subject/>
  <dc:title>Slide 1</dc:title>
</cp:coreProperties>
</file>